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A2B-E7D3-4E91-9C84-02DFAEF3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7B1-A5EA-41F0-AEF3-7E427C0D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0B5-C66D-43E1-B383-37C5212D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AC4-0148-43BC-B6A4-B9D17537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8C1A-FBF0-40EE-ADB3-1041547A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C38C-6DC4-486B-A2A3-DBBF9D29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C4BD-D7C6-45D9-AF67-EC64DF78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A8B3-5EDD-4CA7-B91A-068B0D34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6013-E137-4471-9117-6B0C7A74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28CB-3469-46AC-A534-0EF6430E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C650-BB65-438A-96E4-37BCAA49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600-3D1C-441A-B2A0-76B98F5B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26C3-CFBB-449C-9DF7-364B80AD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442E-CEFD-49AB-8BEC-82663009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30F0-7E07-4290-A2CF-FC105CC1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4743-604B-41D9-83F9-267844AA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CC77-C7F6-4237-A215-FDB33E33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F90-9C35-4E1B-A732-A8321423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7E1-D18B-418A-9C70-71CEFCA8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7C2-2EB1-435A-ACB0-5F0EE924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5CF-72D5-4EC9-824A-C21AD2BC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29F0-877D-44BF-AE0C-BD0C9022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719-CE3D-4025-A5A3-A0CF95F2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4016-91BE-49C5-AB06-78E608DA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5926-DD6A-4B8B-BE29-61DB0385D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66BB-71AF-4CB4-AC0E-001600908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Lupus Awareness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brielle Hatt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ven Early Colle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iving question and The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Is there enough awareness about lup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In order to cure lupus, we need to have more awareness toward its existence and acknowledge as a serious disease in Ame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ortant and Interesting Facts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Lupus is an autoimmune dise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It affects about 1.5 million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ichael Jackson and Toni Brax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e LA Orange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old cupcakes and popsic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oney went to Lupus Foundation of Amer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rs. Quinn wrote a check in exchange for the money that I ma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Grandmother helped make cupc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s will affect my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oney may help others live longer liv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ade people aware at school about what lupus i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ccesses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One step closer to more aware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I learned more about disease and how to take care of my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allenges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witching my paper at the very e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Getting students to contribute in my s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ture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Dealing with Lup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aking more awareness to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Getting more programs in my commun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3:03:22Z</dcterms:created>
  <dc:creator>CEC 130</dc:creator>
  <dc:description/>
  <dc:language>en-US</dc:language>
  <cp:lastModifiedBy>CEC 130</cp:lastModifiedBy>
  <dcterms:modified xsi:type="dcterms:W3CDTF">2011-03-30T16:51:44Z</dcterms:modified>
  <cp:revision>6</cp:revision>
  <dc:subject/>
  <dc:title>Lupus Awareness </dc:title>
</cp:coreProperties>
</file>